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A1E-464D-4CF2-97CB-515D5E9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6D1-B5B7-4EE4-8662-4614C0E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369-62D1-40AE-A15D-28CDDBE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81B-35E5-44A0-9C6A-A0586E07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107-E090-46EF-9021-3917AB5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38A-2A3C-47F0-94B3-72461FA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0BA-3392-4DD8-82EF-62C49C9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557-488B-4528-B35B-8AF09C26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602-0482-4315-AE8C-5195CA2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A19-8E38-4C9F-936E-14BD5ED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C9A-F4EC-46AF-8895-88027DF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BA7-B607-448A-A8A9-C00A832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ACF5-E0C0-4C37-B636-C55F0F8B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8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8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8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8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8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8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8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8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8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8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8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24:10Z</dcterms:created>
  <dc:creator>iñigo</dc:creator>
  <dc:description/>
  <dc:language>en-US</dc:language>
  <cp:lastModifiedBy>iñigo</cp:lastModifiedBy>
  <dcterms:modified xsi:type="dcterms:W3CDTF">2001-04-23T11:24:17Z</dcterms:modified>
  <cp:revision>1</cp:revision>
  <dc:subject/>
  <dc:title>Presentación de PowerPoint</dc:title>
</cp:coreProperties>
</file>